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000" y="274680"/>
            <a:ext cx="72104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76000" y="274680"/>
            <a:ext cx="72104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76000" y="274680"/>
            <a:ext cx="72104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76000" y="274680"/>
            <a:ext cx="72104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76000" y="274680"/>
            <a:ext cx="72104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274680"/>
            <a:ext cx="72104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76000" y="274680"/>
            <a:ext cx="72104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476000" y="274680"/>
            <a:ext cx="72104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76000" y="274680"/>
            <a:ext cx="72104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274680"/>
            <a:ext cx="72104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000" y="274680"/>
            <a:ext cx="72104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476000" y="274680"/>
            <a:ext cx="7210440" cy="993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24000" y="115920"/>
            <a:ext cx="836640" cy="1368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8920" y="260280"/>
            <a:ext cx="7129440" cy="100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t ontstaan van PTF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8920" y="1915920"/>
            <a:ext cx="7129440" cy="370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eval door Dup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ert voo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uren en l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losmidd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mperaturen van -20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C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tot 16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rspronkelijk voor defens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ater andere toepassingen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4572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32000" y="647388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5530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AC1C-BE89-4B51-A742-F16B8BFA2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76360" y="1413000"/>
            <a:ext cx="7199280" cy="326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latie dikte coating (AB) &amp; effectieve diameter (BC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oename effectieve diameter: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BC = 2t </a:t>
            </a:r>
            <a:r>
              <a:rPr b="0" lang="nl-N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in x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oename metrisch, UNF, UNC: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t = 4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in 6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ename BSW &amp; BSF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t = 4,33t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in 5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°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76000" y="274680"/>
            <a:ext cx="7210440" cy="993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dikte vs diame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476360" y="4653000"/>
          <a:ext cx="7198920" cy="2039760"/>
        </p:xfrm>
        <a:graphic>
          <a:graphicData uri="http://schemas.openxmlformats.org/drawingml/2006/table">
            <a:tbl>
              <a:tblPr/>
              <a:tblGrid>
                <a:gridCol w="2399760"/>
                <a:gridCol w="2458800"/>
                <a:gridCol w="23403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ale dikte coa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 metrisch,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F &amp; UNC dra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SW, BSF &amp; BSPF dra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µm (0,0006 in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µm (0,0071 in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µm (0,0077 in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µm (0,0008 in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µm (0,0095 in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µm (0,0102 in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µm (0,0010 in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µm (0,0118 in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5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µm (0,0128 in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µm (0,0012 in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µm (0,0142 in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0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µm (0,0154 in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5292720" y="2133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92720" y="2421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92720" y="3068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92720" y="33559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92720" y="40784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92720" y="4365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76000" y="274680"/>
            <a:ext cx="7210440" cy="993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n-stick eigenschapp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476360" y="1628640"/>
          <a:ext cx="7221600" cy="4934160"/>
        </p:xfrm>
        <a:graphic>
          <a:graphicData uri="http://schemas.openxmlformats.org/drawingml/2006/table">
            <a:tbl>
              <a:tblPr/>
              <a:tblGrid>
                <a:gridCol w="1805400"/>
                <a:gridCol w="1805400"/>
                <a:gridCol w="1805400"/>
                <a:gridCol w="18054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ct ho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2160" indent="-716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pervlakte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chthe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92160" indent="-716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hesie EngeryDy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TF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F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F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Vd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TF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icon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-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,8-7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af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5-1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,7-53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y Ethyl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yl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enol (resi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9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pe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4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umin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76000" y="274680"/>
            <a:ext cx="7210440" cy="993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lijtage eigenschapp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476360" y="1752480"/>
          <a:ext cx="7221600" cy="3548160"/>
        </p:xfrm>
        <a:graphic>
          <a:graphicData uri="http://schemas.openxmlformats.org/drawingml/2006/table">
            <a:tbl>
              <a:tblPr/>
              <a:tblGrid>
                <a:gridCol w="1805760"/>
                <a:gridCol w="1804680"/>
                <a:gridCol w="1806120"/>
                <a:gridCol w="18050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er abra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rdheid Sh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inue temp belas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TF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 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 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 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CTF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 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ylon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-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ycarbona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enol (har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ypropyl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-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ryl (har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N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lyste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3924360" y="5589720"/>
            <a:ext cx="2232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wicht: 1000 g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el CS: 1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cli: 10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76000" y="274680"/>
            <a:ext cx="7210440" cy="993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structie aanbeveling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88920"/>
            <a:ext cx="8229600" cy="449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eer afgeronde hoeken en k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den bij plaatwerk niet tippen, maar dichtl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eer de naad zo homogeen mogelijk te l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jp naden, voorkom bramen of pie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bruik geen siliconenkit of sp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dt rekening met toleran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rg voor ruim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op bij het gebruik van verschillende materialen op temperatuurbestendig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eer geen gesloten ruimte (expans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76000" y="274680"/>
            <a:ext cx="7210440" cy="993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dankt voor uw aandach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jd voor de lunc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556000" y="2924280"/>
            <a:ext cx="379872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476360" y="1413000"/>
            <a:ext cx="2884680" cy="23097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76000" y="274680"/>
            <a:ext cx="7210440" cy="993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TFE toepassing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651640" y="4076640"/>
            <a:ext cx="2954160" cy="2436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1476360" y="4149720"/>
            <a:ext cx="2881440" cy="2344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Petrochemie"/>
          <p:cNvPicPr/>
          <p:nvPr/>
        </p:nvPicPr>
        <p:blipFill>
          <a:blip r:embed="rId5"/>
          <a:stretch/>
        </p:blipFill>
        <p:spPr>
          <a:xfrm>
            <a:off x="5724360" y="1484280"/>
            <a:ext cx="2880000" cy="2160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3635280" y="2708280"/>
            <a:ext cx="27702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76000" y="274680"/>
            <a:ext cx="7210440" cy="993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igenschapp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721044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n-st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ge wrijvingscoëfficië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n-w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ttebestendig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ryogeen stab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hemicaliënbestend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soler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0" y="274680"/>
            <a:ext cx="7210440" cy="993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rame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76000" y="1599840"/>
            <a:ext cx="7210440" cy="470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osiebesche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sche resisten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ogsm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corro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stofbros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urbel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vormbaar na co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jvingscoëfficië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agdi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st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76000" y="274680"/>
            <a:ext cx="7210440" cy="993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Fluorpolymeerdispers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476360" y="2349360"/>
          <a:ext cx="7139160" cy="2195640"/>
        </p:xfrm>
        <a:graphic>
          <a:graphicData uri="http://schemas.openxmlformats.org/drawingml/2006/table">
            <a:tbl>
              <a:tblPr/>
              <a:tblGrid>
                <a:gridCol w="946440"/>
                <a:gridCol w="2438280"/>
                <a:gridCol w="2592360"/>
                <a:gridCol w="1162080"/>
              </a:tblGrid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s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dmidd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vochtig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loeigedra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@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gmen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e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#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 of sol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ev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itharding, et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6000" y="274680"/>
            <a:ext cx="7210440" cy="993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oorbeeld filmvorm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68000" y="1483920"/>
            <a:ext cx="3095640" cy="23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#@*#@*#@*#@*#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@*#@*#@*#@*#@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*#@*#@*#@*#@*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@#*@#*@#*@#*@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/////////////////////////////////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R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/////////////////////////////////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68360" y="4076640"/>
            <a:ext cx="4319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*@@@#@@@*@@@#@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T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@@@#@@@*@@@#@@@@@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*@*##*##*@*##*@*#*@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I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#@*#*#*@*#*#@*#*@*#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//////////////////////////////////////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R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/////////////////////////////////////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63640" y="5229360"/>
            <a:ext cx="27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1484280"/>
            <a:ext cx="1225800" cy="23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I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T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000" y="274680"/>
            <a:ext cx="7210440" cy="993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ductiepro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78200" y="1557360"/>
            <a:ext cx="1657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R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47640" y="2133720"/>
            <a:ext cx="2737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ORBEHAN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7640" y="2708280"/>
            <a:ext cx="2737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RGANISCHE 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47640" y="3573360"/>
            <a:ext cx="2737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MTE VOORBEHAN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47640" y="4437000"/>
            <a:ext cx="2737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IV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47640" y="5556240"/>
            <a:ext cx="2737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47640" y="6148440"/>
            <a:ext cx="2737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64000" y="1484280"/>
            <a:ext cx="2664000" cy="7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ere met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1916280"/>
            <a:ext cx="2592720" cy="7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ndstr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tve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bra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64000" y="2492280"/>
            <a:ext cx="37800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modificeerd z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 verf gebaseerde 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sf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amisch alumin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64000" y="435780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hromaat vr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7640" y="4997520"/>
            <a:ext cx="2737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EDER of DISPERS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73" idx="3"/>
            <a:endCxn id="67" idx="3"/>
          </p:cNvCxnSpPr>
          <p:nvPr/>
        </p:nvCxnSpPr>
        <p:spPr>
          <a:xfrm>
            <a:off x="4284720" y="5186520"/>
            <a:ext cx="2160" cy="55908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" name=""/>
          <p:cNvCxnSpPr>
            <a:stCxn id="73" idx="1"/>
            <a:endCxn id="67" idx="1"/>
          </p:cNvCxnSpPr>
          <p:nvPr/>
        </p:nvCxnSpPr>
        <p:spPr>
          <a:xfrm flipH="1" flipV="1" rot="10800000">
            <a:off x="1546560" y="5186520"/>
            <a:ext cx="2520" cy="5590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6" name=""/>
          <p:cNvSpPr/>
          <p:nvPr/>
        </p:nvSpPr>
        <p:spPr>
          <a:xfrm>
            <a:off x="5364000" y="522936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erdere coa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100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19" dur="100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0" dur="100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1000" autoRev="1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1" dur="1000" autoRev="1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2" dur="1000" autoRev="1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250" autoRev="1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4" dur="250" autoRev="1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5" dur="250" autoRev="1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5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7" dur="25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8" dur="25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" dur="250" autoRev="1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66" dur="250" autoRev="1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7" dur="250" autoRev="1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2" dur="1" fill="hold">
                                    <p:stCondLst>
                                      <p:cond evt="end">
                                        <p:tn val="170"/>
                                      </p:cond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250" autoRev="1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79" dur="250" autoRev="1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0" dur="250" autoRev="1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50" autoRev="1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1" dur="250" autoRev="1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2" dur="250" autoRev="1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50" autoRev="1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3" dur="250" autoRev="1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4" dur="250" autoRev="1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76000" y="274680"/>
            <a:ext cx="7210440" cy="993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indelautoma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476360" y="1413000"/>
            <a:ext cx="719928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76000" y="274680"/>
            <a:ext cx="7210440" cy="993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oordelen van PTF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476360" y="1628640"/>
            <a:ext cx="7199280" cy="4680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0" y="5084640"/>
            <a:ext cx="1835280" cy="28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lts stay us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79640" y="3068640"/>
            <a:ext cx="1657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ts turn easi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76720" y="5394240"/>
            <a:ext cx="1657080" cy="48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rque remains consis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92360" y="5826240"/>
            <a:ext cx="1908000" cy="48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ist blistering, underburrow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59280" y="2781360"/>
            <a:ext cx="19792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ating won’t ch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4560" y="2421000"/>
            <a:ext cx="1657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ist oxid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435640" y="2060640"/>
            <a:ext cx="1657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hts hydro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1700280"/>
            <a:ext cx="1657440" cy="28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hts corro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24360" y="4581360"/>
            <a:ext cx="2051280" cy="48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stand extreme temper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948360" y="4221000"/>
            <a:ext cx="1657440" cy="28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nut freez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12:52:11Z</dcterms:created>
  <dc:creator>jbloemberg</dc:creator>
  <dc:description/>
  <dc:language>en-US</dc:language>
  <cp:lastModifiedBy>jbloemberg</cp:lastModifiedBy>
  <dcterms:modified xsi:type="dcterms:W3CDTF">2007-10-17T07:45:05Z</dcterms:modified>
  <cp:revision>17</cp:revision>
  <dc:subject/>
  <dc:title>Klik om het opmaakprofiel te bewerken</dc:title>
</cp:coreProperties>
</file>