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76000" y="274680"/>
            <a:ext cx="72104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4000" y="115920"/>
            <a:ext cx="836640" cy="13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12944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t ontstaan van PT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129440" cy="37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val door Dup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ert vo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ren en l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ren van -2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ot 1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spronkelijk voor defen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r andere toepassing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647388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5190-DE9F-46F8-9101-366315DAE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6360" y="1413000"/>
            <a:ext cx="7199280" cy="326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latie dikte coating (AB) &amp; effectieve diameter (BC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name effectieve diameter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BC = 2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n x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name metrisch, UNF, UNC: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t = 4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n 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ename BSW &amp; BSF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t = 4,33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n 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dikte vs diame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4653000"/>
          <a:ext cx="7198920" cy="2039760"/>
        </p:xfrm>
        <a:graphic>
          <a:graphicData uri="http://schemas.openxmlformats.org/drawingml/2006/table">
            <a:tbl>
              <a:tblPr/>
              <a:tblGrid>
                <a:gridCol w="2399760"/>
                <a:gridCol w="2458800"/>
                <a:gridCol w="2340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e dikte co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 metrisch,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F &amp; UNC dra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W, BSF &amp; BSPF dra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06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71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77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08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95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02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10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18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28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12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42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54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5292720" y="213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92720" y="306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3355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40784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4365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stick eigenscha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1628640"/>
          <a:ext cx="7221600" cy="4934160"/>
        </p:xfrm>
        <a:graphic>
          <a:graphicData uri="http://schemas.openxmlformats.org/drawingml/2006/table">
            <a:tbl>
              <a:tblPr/>
              <a:tblGrid>
                <a:gridCol w="1805400"/>
                <a:gridCol w="1805400"/>
                <a:gridCol w="1805400"/>
                <a:gridCol w="1805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ho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716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pervlakt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chth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716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hesie EngeryDy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icon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-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8-7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-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7-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 Ethyl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enol (res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p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min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ijtage eigenscha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1752480"/>
          <a:ext cx="7221600" cy="3548160"/>
        </p:xfrm>
        <a:graphic>
          <a:graphicData uri="http://schemas.openxmlformats.org/drawingml/2006/table">
            <a:tbl>
              <a:tblPr/>
              <a:tblGrid>
                <a:gridCol w="1805760"/>
                <a:gridCol w="1804680"/>
                <a:gridCol w="1806120"/>
                <a:gridCol w="1805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er abra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heid Sh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temp bela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T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lon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-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carbona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enol (ha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propyl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ryl (ha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ste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924360" y="5589720"/>
            <a:ext cx="2232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icht: 1000 g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l CS: 1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: 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uctie aanbevelin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8229600" cy="449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eer afgeronde hoeken en k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en bij plaatwerk niet tippen, maar dicht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de naad zo homogeen mogelijk te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jp naden, voorkom bramen of p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geen siliconenkit of sp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t rekening met tolera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ruim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bij het gebruik van verschillende materialen op temperatuurbestend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eer geen gesloten ruimte (expans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 voor de lun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798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2884680" cy="2309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TFE toepassin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2954160" cy="2436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2881440" cy="234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Petrochemie"/>
          <p:cNvPicPr/>
          <p:nvPr/>
        </p:nvPicPr>
        <p:blipFill>
          <a:blip r:embed="rId5"/>
          <a:stretch/>
        </p:blipFill>
        <p:spPr>
          <a:xfrm>
            <a:off x="5724360" y="14842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27702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enscha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n-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wrijvingscoëfficië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n-w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tebestend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yogeen stab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emicaliënbesten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le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7210440" cy="470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e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che resist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ogsm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corro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tofbros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u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ormbaar na co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jvingscoëfficië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agdi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luorpolymeerdispers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76360" y="2349360"/>
          <a:ext cx="7139160" cy="2195640"/>
        </p:xfrm>
        <a:graphic>
          <a:graphicData uri="http://schemas.openxmlformats.org/drawingml/2006/table">
            <a:tbl>
              <a:tblPr/>
              <a:tblGrid>
                <a:gridCol w="946440"/>
                <a:gridCol w="2438280"/>
                <a:gridCol w="2592360"/>
                <a:gridCol w="116208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mid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ochti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eig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@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gmen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of sol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e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tharding, 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orbeeld fil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68000" y="1483920"/>
            <a:ext cx="3095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#@*#@*#@*#@*#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@*#@*#@*#@*#@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*#@*#@*#@*#@*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@#*@#*@#*@#*@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//////////////////////////////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//////////////////////////////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4076640"/>
            <a:ext cx="4319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*@@@#@@@*@@@#@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@@#@@@*@@@#@@@@@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*@*##*##*@*##*@*#*@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#@*#*#*@*#*#@*#*@*#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///////////////////////////////////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//////////////////////////////////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522936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1484280"/>
            <a:ext cx="1225800" cy="23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tiepro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8200" y="1557360"/>
            <a:ext cx="165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213372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HA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2708280"/>
            <a:ext cx="273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RGANISCHE 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3573360"/>
            <a:ext cx="273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TE VOORBEHA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443700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555624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614844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1484280"/>
            <a:ext cx="26640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ere me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916280"/>
            <a:ext cx="259272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ndst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ve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r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492280"/>
            <a:ext cx="3780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odificeerd z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verf gebaseerde 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f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amisch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4357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romaat vr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499752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DER of DISPER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3" idx="3"/>
            <a:endCxn id="67" idx="3"/>
          </p:cNvCxnSpPr>
          <p:nvPr/>
        </p:nvCxnSpPr>
        <p:spPr>
          <a:xfrm>
            <a:off x="4284720" y="5186520"/>
            <a:ext cx="2160" cy="559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1"/>
            <a:endCxn id="67" idx="1"/>
          </p:cNvCxnSpPr>
          <p:nvPr/>
        </p:nvCxnSpPr>
        <p:spPr>
          <a:xfrm flipH="1" flipV="1" rot="10800000">
            <a:off x="1546560" y="5186520"/>
            <a:ext cx="2520" cy="5590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5364000" y="5229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rdere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9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" dur="25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" dur="25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4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delautoma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71992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ordelen van PT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199280" cy="468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0" y="5084640"/>
            <a:ext cx="1835280" cy="2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lts stay u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068640"/>
            <a:ext cx="1657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s turn eas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394240"/>
            <a:ext cx="165708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rque remains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826240"/>
            <a:ext cx="190800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 blistering, underburr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2781360"/>
            <a:ext cx="197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ting won’t c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4560" y="2421000"/>
            <a:ext cx="1657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 ox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2060640"/>
            <a:ext cx="1657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hts hyd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1700280"/>
            <a:ext cx="1657440" cy="2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hts corro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4581360"/>
            <a:ext cx="205128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stand extreme temper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4221000"/>
            <a:ext cx="1657440" cy="2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ut freez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52:11Z</dcterms:created>
  <dc:creator>jbloemberg</dc:creator>
  <dc:description/>
  <dc:language>en-US</dc:language>
  <cp:lastModifiedBy>jbloemberg</cp:lastModifiedBy>
  <dcterms:modified xsi:type="dcterms:W3CDTF">2007-10-17T07:45:05Z</dcterms:modified>
  <cp:revision>17</cp:revision>
  <dc:subject/>
  <dc:title>Klik om het opmaakprofiel te bewerken</dc:title>
</cp:coreProperties>
</file>