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E3DD-BD01-401C-B09B-14433793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472-1939-4099-AD3F-7BD418B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A24-E52E-4F4E-8907-F407BE72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507-5993-4B47-9955-D7F715CC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F0A-9D04-41B9-8866-92C9115B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6DF1-6F8F-4A57-A067-5FDAFEBA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12A-CDA5-49AA-AAEB-82D050AA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E791-1CAC-4F07-A65E-7DB73C85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34F8-B112-414E-922F-5032894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CE2-D07C-45EB-AB22-DE5CEBDB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612-85DD-41E3-92C4-D25CD07B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7997-B791-4F26-8796-30AFF026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1A31-4673-4B66-93FB-18634BA823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765440" y="404640"/>
            <a:ext cx="1316844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2:00:32Z</dcterms:created>
  <dc:creator>Familie Savelsberg</dc:creator>
  <dc:description/>
  <dc:language>en-US</dc:language>
  <cp:lastModifiedBy>jbloemberg</cp:lastModifiedBy>
  <dcterms:modified xsi:type="dcterms:W3CDTF">2007-09-26T06:44:23Z</dcterms:modified>
  <cp:revision>6</cp:revision>
  <dc:subject/>
  <dc:title>Dia 1</dc:title>
</cp:coreProperties>
</file>