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6BD-7EAB-4F6C-9135-51AAA8C0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C37-2934-4254-AF8D-5CEB6336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45D-71B0-4B7C-B343-39489CE5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2BA-F583-4CD6-AE43-61A3D5B3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F8C-1AC5-4FDC-875D-EFDC86F6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EEB-5449-4A79-9893-1283B850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635-8716-4410-BDE3-902DAE4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F82-3033-47DD-9530-EC3F48A6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AE0-BA6E-4955-948D-669BA8B9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69D-1FC6-4C0A-9CA6-B944526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B0C-4428-4607-9E47-5CA5F757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B25-108E-4A75-8634-34499CC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1824-41BF-4026-A224-A0EB7DF7AD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2:00:32Z</dcterms:created>
  <dc:creator>Familie Savelsberg</dc:creator>
  <dc:description/>
  <dc:language>en-US</dc:language>
  <cp:lastModifiedBy>jbloemberg</cp:lastModifiedBy>
  <dcterms:modified xsi:type="dcterms:W3CDTF">2007-09-26T06:44:23Z</dcterms:modified>
  <cp:revision>6</cp:revision>
  <dc:subject/>
  <dc:title>Dia 1</dc:title>
</cp:coreProperties>
</file>